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4DF-E381-4124-8A96-9B76817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AAE-9374-4FF6-8E4E-800A94B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E5F-8FCB-4DEC-A8C5-207A661E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03D-DDD1-4691-BBC5-C3C7B7E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EAB-7DC6-4D38-9FF5-2D46A86F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2E1-6424-4F0D-807F-4AE3990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B21B-C8D2-48C7-98EB-39B955B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B34-B2EC-4D5E-B827-809F541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4A2-41F1-44D1-98F8-3C13B83C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325-EDB4-4132-98FD-5100757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02B-7902-41B8-99B6-03EB0FB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D02-BE6F-4266-AB3F-C687F65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D451-7704-489F-90D8-AF5AD563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4971-7E1F-413C-9A89-31A996C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00B8-62E1-4B01-9720-58A96AB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F76-EC99-4B8D-A73D-AE4C914A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2E4-43E3-4250-985B-083804AF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0F5-FB36-4205-9078-AB0BBBD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3AB-CF54-451F-AF84-1DDAFEC4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45C-65C4-4EFB-89E7-C15F246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2DF-7421-421A-BB25-19EBF85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286-C621-4BD1-A247-7CA19A2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7E9-8CAB-4332-948A-AD4536CE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381-21C7-4CCF-8468-D785FCE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139-49CE-4156-B09C-D9729124E6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92C8-C56E-4D17-9EE9-B7688B6734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466560"/>
            <a:ext cx="716292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SDMX </a:t>
            </a:r>
            <a:br>
              <a:rPr sz="5400"/>
            </a:b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Information Model: </a:t>
            </a:r>
            <a:br>
              <a:rPr sz="5400"/>
            </a:br>
            <a:r>
              <a:rPr b="0" lang="en-US" sz="5400" spc="-1" strike="noStrike">
                <a:solidFill>
                  <a:srgbClr val="330066"/>
                </a:solidFill>
                <a:latin typeface="Arial"/>
              </a:rPr>
              <a:t>An Introduction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lla Gozal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S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observations of a particular variable, taken at different points in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s that belong to the same time series, differ in their TIME dimen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ther dimension values are iden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-level attributes may differ across observations of the same time se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Series: Demonst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>
            <a:alphaModFix amt="25000"/>
          </a:blip>
          <a:stretch/>
        </p:blipFill>
        <p:spPr>
          <a:xfrm>
            <a:off x="457200" y="1752480"/>
            <a:ext cx="7172280" cy="3886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3733920" y="3048120"/>
            <a:ext cx="3581280" cy="22860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10080" y="3886200"/>
            <a:ext cx="2210040" cy="22860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733920" y="4724280"/>
            <a:ext cx="3581280" cy="26532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367320" y="4303800"/>
            <a:ext cx="947880" cy="26496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367320" y="2612880"/>
            <a:ext cx="947880" cy="26532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410080" y="2192400"/>
            <a:ext cx="2210040" cy="228600"/>
          </a:xfrm>
          <a:prstGeom prst="rect">
            <a:avLst/>
          </a:prstGeom>
          <a:solidFill>
            <a:srgbClr val="ff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ross-Sectional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n-time dimension is chosen along which a set of observations is constru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for a survey or census the time is usually fixed and another dimension may be chosen to be reported at the observ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less frequently than time series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 Series View vs Cross-Sectional 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4800600" y="4495680"/>
            <a:ext cx="3409920" cy="1152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5562720" y="28195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x dimension was chosen as the cross-sectional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04920" y="4648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ime is still applic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057560" y="1863720"/>
            <a:ext cx="612720" cy="2239920"/>
          </a:xfrm>
          <a:prstGeom prst="rect">
            <a:avLst/>
          </a:prstGeom>
          <a:solidFill>
            <a:srgbClr val="7e9ce8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6.38889E-006 1.48148E-006 C 0.10607 -0.07014 0.21232 -0.14004 0.25104 -0.08472 C 0.28975 -0.0294 0.23541 0.2625 0.23229 0.33195 E">
                                      <p:cBhvr>
                                        <p:cTn id="10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s in SDM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ies ke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quely identify a time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 all dimensions excep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oup ke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quely identifies a group of time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 a subset of the series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understood as a collection of similar data, sharing a structure, which covers a fixed period of time.”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llection of time series or cross-sectional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set serves as a container for series data in SDMX data mess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07200" y="6248520"/>
            <a:ext cx="29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ource: Metadata Common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adata in SDM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stored or exchanged separately from the object it describes, but be linked to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indexed and searc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ed according to a define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adata Structure Definition (MS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SD Defin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bject type to which metadata can be associ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 DSD, Dimension, Partial Ke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onents comprising the object identifier of the target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 the draft SDG MSD allows metadata to be attached to each series for each cou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s used to express metadata (“metadata attributes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 Indicator Definition, Quality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5"/>
          <p:cNvSpPr/>
          <p:nvPr/>
        </p:nvSpPr>
        <p:spPr>
          <a:xfrm>
            <a:off x="762120" y="2971800"/>
            <a:ext cx="2666880" cy="5202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_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ference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7"/>
          <p:cNvSpPr/>
          <p:nvPr/>
        </p:nvSpPr>
        <p:spPr>
          <a:xfrm>
            <a:off x="762120" y="2971800"/>
            <a:ext cx="2666880" cy="5202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_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ference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adata Structure Definition and Metadata Set: a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762120" y="2286000"/>
            <a:ext cx="2666880" cy="5202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henomenon to be measu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4876920" y="2336760"/>
            <a:ext cx="2666880" cy="520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_CONC_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dicator Defin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4876920" y="2971800"/>
            <a:ext cx="2666880" cy="520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_CO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thod of Compu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9"/>
          <p:cNvSpPr/>
          <p:nvPr/>
        </p:nvSpPr>
        <p:spPr>
          <a:xfrm>
            <a:off x="762120" y="1752480"/>
            <a:ext cx="266688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0"/>
          <p:cNvSpPr/>
          <p:nvPr/>
        </p:nvSpPr>
        <p:spPr>
          <a:xfrm>
            <a:off x="1443960" y="187956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4876920" y="1752480"/>
            <a:ext cx="266688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5405400" y="190512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4"/>
          <p:cNvSpPr/>
          <p:nvPr/>
        </p:nvSpPr>
        <p:spPr>
          <a:xfrm>
            <a:off x="609480" y="4114800"/>
            <a:ext cx="7239240" cy="243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3353400" y="41148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7"/>
          <p:cNvSpPr/>
          <p:nvPr/>
        </p:nvSpPr>
        <p:spPr>
          <a:xfrm>
            <a:off x="609480" y="4419720"/>
            <a:ext cx="7239240" cy="5202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_STA_BR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irths attended by skilled health personn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_AREA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H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ambo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611280" y="1371600"/>
            <a:ext cx="723744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9"/>
          <p:cNvSpPr/>
          <p:nvPr/>
        </p:nvSpPr>
        <p:spPr>
          <a:xfrm>
            <a:off x="1828800" y="1406520"/>
            <a:ext cx="449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STRUCTU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609480" y="4984920"/>
            <a:ext cx="72392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_CONC_DE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“It refers to the proportion of deliveries that were attended by skilled health personnel including physicians, medical assistants, midwives and nurses but excluding traditional birth attendants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609480" y="5791320"/>
            <a:ext cx="72392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_COM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“The number of women aged 15-49 with a live birth attended by skilled health personnel (doctors, nurses or midwives) during delivery is expressed as a percentage of women aged 15-49 with a live birth in the same period. 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6"/>
          <p:cNvSpPr/>
          <p:nvPr/>
        </p:nvSpPr>
        <p:spPr>
          <a:xfrm>
            <a:off x="762120" y="2286000"/>
            <a:ext cx="2666880" cy="5202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henomenon to be measu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4879800" y="2340000"/>
            <a:ext cx="2667240" cy="520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_CONC_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dicator Defin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9"/>
          <p:cNvSpPr/>
          <p:nvPr/>
        </p:nvSpPr>
        <p:spPr>
          <a:xfrm>
            <a:off x="4879800" y="2970360"/>
            <a:ext cx="2667240" cy="520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_CO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thod of Compu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0.14461 0.08334 C 0.17743 0.1007 0.19583 0.12686 0.19583 0.15417 C 0.19583 0.18519 0.17743 0.21019 0.14461 0.22755 L 3.33333E-006 0.31112 E">
                                      <p:cBhvr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0.03993 0.05834 C 0.04896 0.07061 0.05399 0.08889 0.05399 0.10788 C 0.05399 0.12963 0.04896 0.147 0.03993 0.15926 L 3.33333E-006 0.21783 E">
                                      <p:cBhvr>
                                        <p:cTn id="14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0.32118 0.39884 E">
                                      <p:cBhvr>
                                        <p:cTn id="1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325 0.42222 E">
                                      <p:cBhvr>
                                        <p:cTn id="17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flow and Metadata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flow defines a “view” on a Data Structure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constrained to a subset of codes in any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categorized, i.e. can hav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teg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tach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s simplest form defines any data valid according to a D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ly, Metadataflow defines a view on a Metadata Structure Defin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DMX Informatio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bstract model, from which actual implementations are deriv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ed in XML, GESMES, JSON, CS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thought of as a number of packages arranged in 3 lay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tegory and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tegory Sche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y is a way of classifying data for reporting or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ject matter-domains are commonly implemented as Categories, such as “Demographic Statistics”, “Economic Statistic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y Scheme groups Categories into a maintainable un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Provider and Provision Agre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Provider is an organization that produces and disseminates data and/or reference meta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sion Agreement links a Data Provider and a Data/Metadata F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 a Data Provider agrees to provide data as specified by a Data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Dataflows, Provision Agreements can be categorized and constrai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t Constra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aints can be used to define which combinations of codes are allow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=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rtion of Women in Commune Council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must be 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aints can define more granular validation rules than a simple validation of c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often attached to the Dataflow but can also be attached to DSD, Provision Agreement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DMX Mess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SDMX-related information is exchanged in the form of documents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ssag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SDMX message can be sent in a number of standard formats including XML, JSON, C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several types of SDMX messages, each serving a particular purpose, e.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ssage is used to transmit structural information such as DSD, MSD, Concept Schem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ic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ctureSpecificData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other messages are used to send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MX messages in the XML format are referred to as SDMX-ML messa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848360" cy="21049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DMX Information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ckages and Lay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911520" y="6248520"/>
            <a:ext cx="59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DMX SECTION 02 INFORMATION MODEL: UML CONCEPTU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00280" y="2759040"/>
            <a:ext cx="739440" cy="60948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327400" y="2760840"/>
            <a:ext cx="739800" cy="60948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095640" y="2760840"/>
            <a:ext cx="739800" cy="60948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92000" y="2131920"/>
            <a:ext cx="739800" cy="60984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1549440" y="2131920"/>
            <a:ext cx="739800" cy="60984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"/>
          <p:cNvPicPr/>
          <p:nvPr/>
        </p:nvPicPr>
        <p:blipFill>
          <a:blip r:embed="rId2"/>
          <a:stretch/>
        </p:blipFill>
        <p:spPr>
          <a:xfrm>
            <a:off x="2300400" y="2111400"/>
            <a:ext cx="2809800" cy="628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focu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nd Metadata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1562040" y="2759040"/>
            <a:ext cx="739800" cy="60948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3855960" y="2759040"/>
            <a:ext cx="739800" cy="609480"/>
          </a:xfrm>
          <a:prstGeom prst="rect">
            <a:avLst/>
          </a:prstGeom>
          <a:solidFill>
            <a:srgbClr val="ccffcc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al vs Reference Meta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al Metadata: Identifiers and Descriptors, e.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ructure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 Metadata: Describes contents and quality of data, e.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or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nts and limi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Structure Definition (DS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s a data model used in ex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s datase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SD 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s that pertain to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lists, which represent the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mensional structure, which describes roles of the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, which define higher levels of aggreg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ey Fami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this term was discontinued in SDMX 2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ept Sche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escriptive information for an arrangement or division of concepts into groups based on characteristics, which the objects have in common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scheme places concepts into a maintainable un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de Lists and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 lists provide representation for concepts, in terms of Co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s are language-independent and may include descriptions in multiple langu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 lists must be harmonized among all data providers that will be involved in exchang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mensiona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d as part of Data Structure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s concepts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s concepts to code 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grou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ttribute attachment lev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DMX, groups defi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ial ke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can be used to attach information 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ributes can be attached at observation, series, group, or dataset level. The parsimony principle calls for attributes to be attached to the highest applicable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practical purposes attributes are typically attached to the observation or time s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are not used in the SDG DSD, and are generally rarely used or suppor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y Ghafari</cp:lastModifiedBy>
  <dcterms:modified xsi:type="dcterms:W3CDTF">2018-12-17T18:10:37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