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36680" y="1162080"/>
            <a:ext cx="4184640" cy="31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27C3-60DC-4F82-8B70-EF235264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36680" y="1162080"/>
            <a:ext cx="4184640" cy="31384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4D8-6029-4924-B0FB-F0E5EAF33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36680" y="1162080"/>
            <a:ext cx="4184640" cy="3138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etails in COP Decision 14/34 (Anne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369-EC98-43AD-BE86-57DDFBF0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36680" y="1162080"/>
            <a:ext cx="4184640" cy="31384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94EE-2591-4525-BF04-EE133CAB3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A17-8000-4BC7-8E29-4E733190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4E5-CD95-4112-A3E5-79D86020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98C-592B-496B-B719-B1F02D94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B1B-0418-4979-BF22-6E7853D5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D1B30-A81C-4BA4-A08D-E122ECF4C2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5226-A000-4A9F-AE61-C0F98539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7AB66-0320-4127-BFB1-41072E4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91CE8-A814-485D-9BA3-988B0BE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E5938-CB29-4AEE-B4F6-3F44E14F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60D2C-A010-4CE6-88E8-5467B5CC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9F743-6AC3-49A4-93C9-E685C72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444-8EC8-40DE-9A61-D5D4D52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DEE48-E9DC-422C-87F7-7DC43A8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4DA90-9C47-484A-81FF-DBB7702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1485D-277E-44A9-A106-6E13D5C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FAEB4-7531-4903-A682-7214BAF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97B27-B780-46B2-83D3-2C81D3C1D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8E4-B5C4-4E53-AE8A-9B519383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E79-C953-4BEA-BFBD-AE7EC1E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505-B560-4AF3-B8EB-D3986E7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003-07F0-4C62-99C3-9F23F22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2AE-29A5-473D-A49F-CB40BCB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1D4-1C89-4568-A633-9705394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B00-196B-4650-B5F9-B66D57C4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25B-7E8C-4F0B-921D-D4A799455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bd.int/post202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4385-58F6-4608-86B6-8E0A77A4A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0" y="0"/>
            <a:ext cx="9144000" cy="1295280"/>
          </a:xfrm>
          <a:prstGeom prst="roundRect">
            <a:avLst>
              <a:gd name="adj" fmla="val 0"/>
            </a:avLst>
          </a:prstGeom>
          <a:solidFill>
            <a:srgbClr val="093510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 rot="16200000">
            <a:off x="-2613240" y="3908520"/>
            <a:ext cx="5564160" cy="3373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 Narrow"/>
                <a:ea typeface="Arial"/>
              </a:rPr>
              <a:t>CBD Post 2020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191120" y="56732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C42-5E7B-4F24-8A25-332119954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534160" y="6485040"/>
            <a:ext cx="609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4452-6AEC-4DB4-B84F-D8BD2ADD3BD6}" type="slidenum"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676160"/>
            <a:ext cx="7010280" cy="2361960"/>
          </a:xfrm>
          <a:prstGeom prst="rect">
            <a:avLst/>
          </a:prstGeom>
          <a:solidFill>
            <a:srgbClr val="09351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t-2020 Global Biodiversity Framework</a:t>
            </a:r>
            <a:endParaRPr b="0" lang="en-US" sz="28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4038480"/>
            <a:ext cx="2133720" cy="10087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Secretariat of C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Jyo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Mathur-Filip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6629400" y="545940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October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2198520" y="4062240"/>
            <a:ext cx="69739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Tim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April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es agreed to a Strategic Plan 2011-2020 and it’s related Aichi Targets in 20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es also agreed to a Vision “Living in Harmony with Nature by 2050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ime period has ended, Parties negotiating a new Framewo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ramework is for 30 years with 10-year milestones to check implementation which is a lesson lear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8534520" y="648504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F119-4B79-497B-B03D-758DF4E3454C}" type="slidenum"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ost-2020 Process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71240"/>
            <a:ext cx="8534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rty-led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EWG Objective is different from ongoing intersessional processes of C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ims to address needs and respect limitations of various Parties / Regions and CBD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liver Framework to COP 1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reate positive ambiance for negot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2699-E6DA-4169-B89C-9F9BF0F29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55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Overarching Principles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291960" y="1359000"/>
            <a:ext cx="8699760" cy="52704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2FA5-ACAA-4CBA-80CD-83F5E114B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3680" y="3106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04" name="Flowchart: Off-page Connector 13"/>
          <p:cNvSpPr/>
          <p:nvPr/>
        </p:nvSpPr>
        <p:spPr>
          <a:xfrm rot="10800000">
            <a:off x="3246120" y="3954600"/>
            <a:ext cx="428760" cy="91440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SBSTTA WG8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lowchart: Off-page Connector 7"/>
          <p:cNvSpPr/>
          <p:nvPr/>
        </p:nvSpPr>
        <p:spPr>
          <a:xfrm rot="10800000">
            <a:off x="8345520" y="3962160"/>
            <a:ext cx="425520" cy="1012680"/>
          </a:xfrm>
          <a:prstGeom prst="flowChartOffpageConnector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CoP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Kun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lowchart: Off-page Connector 8"/>
          <p:cNvSpPr/>
          <p:nvPr/>
        </p:nvSpPr>
        <p:spPr>
          <a:xfrm rot="10800000">
            <a:off x="4782600" y="3954600"/>
            <a:ext cx="427320" cy="91440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OE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Off-page Connector 9"/>
          <p:cNvSpPr/>
          <p:nvPr/>
        </p:nvSpPr>
        <p:spPr>
          <a:xfrm rot="10800000">
            <a:off x="7248600" y="3962160"/>
            <a:ext cx="425520" cy="1012680"/>
          </a:xfrm>
          <a:prstGeom prst="flowChartOffpageConnector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OE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C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Off-page Connector 10"/>
          <p:cNvSpPr/>
          <p:nvPr/>
        </p:nvSpPr>
        <p:spPr>
          <a:xfrm rot="10800000">
            <a:off x="1926720" y="3954600"/>
            <a:ext cx="427320" cy="91440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OEW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Nairo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Off-page Connector 12"/>
          <p:cNvSpPr/>
          <p:nvPr/>
        </p:nvSpPr>
        <p:spPr>
          <a:xfrm rot="10800000">
            <a:off x="5962680" y="3976560"/>
            <a:ext cx="425520" cy="1013040"/>
          </a:xfrm>
          <a:prstGeom prst="flowChartOffpageConnector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SBSTTA S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597880" y="641196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ACF-D39E-4F8D-AF48-3E637BA5C83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533520" y="1400040"/>
            <a:ext cx="2332080" cy="70380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Phase 1: Regional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916360" y="1700280"/>
            <a:ext cx="3733560" cy="3988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c3d69b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Themat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5678640" y="2149560"/>
            <a:ext cx="2757240" cy="398880"/>
          </a:xfrm>
          <a:prstGeom prst="rect">
            <a:avLst/>
          </a:prstGeom>
          <a:solidFill>
            <a:srgbClr val="c3d6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3: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lowchart: Off-page Connector 26"/>
          <p:cNvSpPr/>
          <p:nvPr/>
        </p:nvSpPr>
        <p:spPr>
          <a:xfrm rot="10800000">
            <a:off x="2819520" y="3954600"/>
            <a:ext cx="426960" cy="91440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Informal Brie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24"/>
          <p:cNvSpPr/>
          <p:nvPr/>
        </p:nvSpPr>
        <p:spPr>
          <a:xfrm>
            <a:off x="463680" y="2968560"/>
            <a:ext cx="8680320" cy="1133640"/>
          </a:xfrm>
          <a:prstGeom prst="rightArrow">
            <a:avLst>
              <a:gd name="adj1" fmla="val 72537"/>
              <a:gd name="adj2" fmla="val 3754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 rot="5400000">
            <a:off x="1801080" y="3272760"/>
            <a:ext cx="64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1"/>
          <p:cNvSpPr/>
          <p:nvPr/>
        </p:nvSpPr>
        <p:spPr>
          <a:xfrm rot="5400000">
            <a:off x="7941600" y="341280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5"/>
          <p:cNvSpPr/>
          <p:nvPr/>
        </p:nvSpPr>
        <p:spPr>
          <a:xfrm rot="5400000">
            <a:off x="5690880" y="3245040"/>
            <a:ext cx="8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 17 Aug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1"/>
          <p:cNvSpPr/>
          <p:nvPr/>
        </p:nvSpPr>
        <p:spPr>
          <a:xfrm rot="5400000">
            <a:off x="4690800" y="3303720"/>
            <a:ext cx="72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 24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owchart: Off-page Connector 32"/>
          <p:cNvSpPr/>
          <p:nvPr/>
        </p:nvSpPr>
        <p:spPr>
          <a:xfrm rot="10800000">
            <a:off x="3897000" y="3895560"/>
            <a:ext cx="204840" cy="108432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Draft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Off-page Connector 33"/>
          <p:cNvSpPr/>
          <p:nvPr/>
        </p:nvSpPr>
        <p:spPr>
          <a:xfrm rot="10800000">
            <a:off x="6629040" y="3890880"/>
            <a:ext cx="204840" cy="1084320"/>
          </a:xfrm>
          <a:prstGeom prst="flowChartOffpageConnector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Draft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lowchart: Off-page Connector 30"/>
          <p:cNvSpPr/>
          <p:nvPr/>
        </p:nvSpPr>
        <p:spPr>
          <a:xfrm rot="10800000">
            <a:off x="538200" y="3927600"/>
            <a:ext cx="426960" cy="91440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Calibri"/>
              </a:rPr>
              <a:t>OEW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lowchart: Off-page Connector 35"/>
          <p:cNvSpPr/>
          <p:nvPr/>
        </p:nvSpPr>
        <p:spPr>
          <a:xfrm rot="10800000">
            <a:off x="4652640" y="5041440"/>
            <a:ext cx="291960" cy="175572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lowchart: Off-page Connector 36"/>
          <p:cNvSpPr/>
          <p:nvPr/>
        </p:nvSpPr>
        <p:spPr>
          <a:xfrm rot="10800000">
            <a:off x="3404880" y="4987800"/>
            <a:ext cx="244440" cy="182088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Resource M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lowchart: Off-page Connector 37"/>
          <p:cNvSpPr/>
          <p:nvPr/>
        </p:nvSpPr>
        <p:spPr>
          <a:xfrm rot="10800000">
            <a:off x="5081400" y="5054760"/>
            <a:ext cx="244440" cy="172224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Capacity Bl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Off-page Connector 39"/>
          <p:cNvSpPr/>
          <p:nvPr/>
        </p:nvSpPr>
        <p:spPr>
          <a:xfrm rot="10800000">
            <a:off x="1066320" y="5183280"/>
            <a:ext cx="244440" cy="161424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Rest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owchart: Off-page Connector 40"/>
          <p:cNvSpPr/>
          <p:nvPr/>
        </p:nvSpPr>
        <p:spPr>
          <a:xfrm rot="10800000">
            <a:off x="1615680" y="5179680"/>
            <a:ext cx="244440" cy="1617480"/>
          </a:xfrm>
          <a:prstGeom prst="flowChartOffpageConnector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Mar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lowchart: Off-page Connector 45"/>
          <p:cNvSpPr/>
          <p:nvPr/>
        </p:nvSpPr>
        <p:spPr>
          <a:xfrm rot="10800000">
            <a:off x="6031080" y="5343120"/>
            <a:ext cx="217440" cy="1514520"/>
          </a:xfrm>
          <a:prstGeom prst="flowChartOffpageConnector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Sust.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2"/>
          <p:cNvCxnSpPr/>
          <p:nvPr/>
        </p:nvCxnSpPr>
        <p:spPr>
          <a:xfrm>
            <a:off x="6402240" y="5486040"/>
            <a:ext cx="99900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TextBox 4"/>
          <p:cNvSpPr/>
          <p:nvPr/>
        </p:nvSpPr>
        <p:spPr>
          <a:xfrm>
            <a:off x="6402240" y="5554800"/>
            <a:ext cx="9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9 wk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34"/>
          <p:cNvCxnSpPr/>
          <p:nvPr/>
        </p:nvCxnSpPr>
        <p:spPr>
          <a:xfrm>
            <a:off x="7671960" y="5486040"/>
            <a:ext cx="92628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Box 38"/>
          <p:cNvSpPr/>
          <p:nvPr/>
        </p:nvSpPr>
        <p:spPr>
          <a:xfrm>
            <a:off x="7672320" y="555480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9 wk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Off-page Connector 41"/>
          <p:cNvSpPr/>
          <p:nvPr/>
        </p:nvSpPr>
        <p:spPr>
          <a:xfrm rot="10800000">
            <a:off x="5792760" y="5343120"/>
            <a:ext cx="217440" cy="1514520"/>
          </a:xfrm>
          <a:prstGeom prst="flowChartOffpageConnector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Calibri"/>
              </a:rPr>
              <a:t>Th.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42"/>
          <p:cNvCxnSpPr/>
          <p:nvPr/>
        </p:nvCxnSpPr>
        <p:spPr>
          <a:xfrm>
            <a:off x="6705360" y="5084280"/>
            <a:ext cx="695520" cy="3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TextBox 43"/>
          <p:cNvSpPr/>
          <p:nvPr/>
        </p:nvSpPr>
        <p:spPr>
          <a:xfrm>
            <a:off x="6858000" y="5118120"/>
            <a:ext cx="6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6 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48"/>
          <p:cNvCxnSpPr/>
          <p:nvPr/>
        </p:nvCxnSpPr>
        <p:spPr>
          <a:xfrm>
            <a:off x="5659560" y="5084280"/>
            <a:ext cx="543600" cy="3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" name="TextBox 49"/>
          <p:cNvSpPr/>
          <p:nvPr/>
        </p:nvSpPr>
        <p:spPr>
          <a:xfrm>
            <a:off x="5659560" y="5118120"/>
            <a:ext cx="6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6 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lowchart: Off-page Connector 50"/>
          <p:cNvSpPr/>
          <p:nvPr/>
        </p:nvSpPr>
        <p:spPr>
          <a:xfrm rot="10800000">
            <a:off x="5559120" y="3903480"/>
            <a:ext cx="204840" cy="1083960"/>
          </a:xfrm>
          <a:prstGeom prst="flowChartOffpageConnector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Calibri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52"/>
          <p:cNvCxnSpPr/>
          <p:nvPr/>
        </p:nvCxnSpPr>
        <p:spPr>
          <a:xfrm flipV="1">
            <a:off x="523800" y="2812680"/>
            <a:ext cx="4472640" cy="7200"/>
          </a:xfrm>
          <a:prstGeom prst="straightConnector1">
            <a:avLst/>
          </a:prstGeom>
          <a:ln w="57240">
            <a:solidFill>
              <a:srgbClr val="7f7f7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TextBox 51"/>
          <p:cNvSpPr/>
          <p:nvPr/>
        </p:nvSpPr>
        <p:spPr>
          <a:xfrm>
            <a:off x="2793960" y="2660760"/>
            <a:ext cx="124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put from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53"/>
          <p:cNvCxnSpPr/>
          <p:nvPr/>
        </p:nvCxnSpPr>
        <p:spPr>
          <a:xfrm>
            <a:off x="4995720" y="2813040"/>
            <a:ext cx="3477600" cy="7200"/>
          </a:xfrm>
          <a:prstGeom prst="straightConnector1">
            <a:avLst/>
          </a:prstGeom>
          <a:ln w="57240">
            <a:solidFill>
              <a:srgbClr val="4f622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TextBox 54"/>
          <p:cNvSpPr/>
          <p:nvPr/>
        </p:nvSpPr>
        <p:spPr>
          <a:xfrm>
            <a:off x="5764320" y="2671920"/>
            <a:ext cx="192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put from/via Par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Quick updates/revision of NBSAPs so that there are no time lags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mplementation should continue even if COP 15 is delayed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eantime, implementation could focus on no regret projects focused on no net loss by 2030 and regeneration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t COP15 it is anticipated that a “package” that will include a monitoring framework with indicators. SBSTTA document request to validate this wor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8534520" y="648504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8A97-27CC-431F-AD33-EA9554543403}" type="slidenum"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3333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086600" y="61722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4ea6ea"/>
                </a:solidFill>
                <a:latin typeface="Arial"/>
              </a:rPr>
              <a:t>#Biodiversity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4ea6ea"/>
                </a:solidFill>
                <a:latin typeface="Arial"/>
              </a:rPr>
              <a:t>#COP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6635880" y="6248520"/>
            <a:ext cx="415800" cy="42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A close up of a logo&#10;&#10;Description automatically generated"/>
          <p:cNvPicPr/>
          <p:nvPr/>
        </p:nvPicPr>
        <p:blipFill>
          <a:blip r:embed="rId2"/>
          <a:srcRect l="0" t="0" r="64384" b="0"/>
          <a:stretch/>
        </p:blipFill>
        <p:spPr>
          <a:xfrm>
            <a:off x="798480" y="2286000"/>
            <a:ext cx="270684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3429000" y="3629160"/>
            <a:ext cx="556272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 Black"/>
              </a:rPr>
              <a:t>UN BIODIVERSITY CON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e60012"/>
                </a:solidFill>
                <a:latin typeface="Arial"/>
              </a:rPr>
              <a:t>COP 15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– CP/MOP10-NP/MOP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Ecological Civilization-Building a Shared Future for All Life on Ear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KUNMING • CHI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A picture containing light&#10;&#10;Description automatically generated"/>
          <p:cNvPicPr/>
          <p:nvPr/>
        </p:nvPicPr>
        <p:blipFill>
          <a:blip r:embed="rId3"/>
          <a:stretch/>
        </p:blipFill>
        <p:spPr>
          <a:xfrm>
            <a:off x="4483080" y="6089760"/>
            <a:ext cx="17654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3T15:42:58Z</dcterms:created>
  <dc:creator>van Havre</dc:creator>
  <dc:description/>
  <dc:language>en-US</dc:language>
  <cp:lastModifiedBy>Jyoti Mathur-Filipp</cp:lastModifiedBy>
  <cp:lastPrinted>2020-01-08T19:59:37Z</cp:lastPrinted>
  <dcterms:modified xsi:type="dcterms:W3CDTF">2020-04-21T11:55:13Z</dcterms:modified>
  <cp:revision>573</cp:revision>
  <dc:subject/>
  <dc:title>CBD Post 2020 Process</dc:title>
</cp:coreProperties>
</file>